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gif" ContentType="image/gif"/>
  <Override PartName="/ppt/media/image6.wmf" ContentType="image/x-wmf"/>
  <Override PartName="/ppt/media/image4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9595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C:\Documents and Settings\Administrator\桌面\1121315675897.gif"/>
          <p:cNvPicPr/>
          <p:nvPr/>
        </p:nvPicPr>
        <p:blipFill>
          <a:blip r:embed="rId4"/>
          <a:stretch/>
        </p:blipFill>
        <p:spPr>
          <a:xfrm flipH="1">
            <a:off x="7924680" y="4800600"/>
            <a:ext cx="936720" cy="186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3"/>
          <a:stretch/>
        </p:blipFill>
        <p:spPr>
          <a:xfrm>
            <a:off x="8001000" y="0"/>
            <a:ext cx="800280" cy="83808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3444120" y="45720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九年级上册数学（冀教版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14600" y="35053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第</a:t>
            </a:r>
            <a:r>
              <a:rPr b="1" lang="zh-CN" sz="32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24</a:t>
            </a:r>
            <a:r>
              <a:rPr b="1" lang="zh-CN" sz="32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章　一元二次方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981080" y="4479840"/>
            <a:ext cx="586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66ff"/>
                </a:solidFill>
                <a:latin typeface="方正美黑简体"/>
                <a:ea typeface="方正美黑简体"/>
              </a:rPr>
              <a:t>24</a:t>
            </a:r>
            <a:r>
              <a:rPr b="1" lang="en-US" sz="3000" spc="-1" strike="noStrike">
                <a:solidFill>
                  <a:srgbClr val="cc66ff"/>
                </a:solidFill>
                <a:latin typeface="方正美黑简体"/>
                <a:ea typeface="方正美黑简体"/>
              </a:rPr>
              <a:t>．</a:t>
            </a:r>
            <a:r>
              <a:rPr b="1" lang="en-US" sz="3000" spc="-1" strike="noStrike">
                <a:solidFill>
                  <a:srgbClr val="cc66ff"/>
                </a:solidFill>
                <a:latin typeface="方正美黑简体"/>
                <a:ea typeface="方正美黑简体"/>
              </a:rPr>
              <a:t>4</a:t>
            </a:r>
            <a:r>
              <a:rPr b="1" lang="en-US" sz="3000" spc="-1" strike="noStrike">
                <a:solidFill>
                  <a:srgbClr val="cc66ff"/>
                </a:solidFill>
                <a:latin typeface="方正美黑简体"/>
                <a:ea typeface="方正美黑简体"/>
              </a:rPr>
              <a:t>　一元二次方程的应用</a:t>
            </a:r>
            <a:r>
              <a:rPr b="1" lang="en-US" sz="3000" spc="-1" strike="noStrike">
                <a:solidFill>
                  <a:srgbClr val="cc66ff"/>
                </a:solidFill>
                <a:latin typeface="方正美黑简体"/>
                <a:ea typeface="方正美黑简体"/>
              </a:rPr>
              <a:t>(</a:t>
            </a:r>
            <a:r>
              <a:rPr b="1" lang="en-US" sz="3000" spc="-1" strike="noStrike">
                <a:solidFill>
                  <a:srgbClr val="cc66ff"/>
                </a:solidFill>
                <a:latin typeface="方正美黑简体"/>
                <a:ea typeface="方正美黑简体"/>
              </a:rPr>
              <a:t>三</a:t>
            </a:r>
            <a:r>
              <a:rPr b="1" lang="en-US" sz="3000" spc="-1" strike="noStrike">
                <a:solidFill>
                  <a:srgbClr val="cc66ff"/>
                </a:solidFill>
                <a:latin typeface="方正美黑简体"/>
                <a:ea typeface="方正美黑简体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80880" y="1319400"/>
            <a:ext cx="853452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(12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分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某特产专卖店销售核桃，其进价为每千克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元，按每千克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元出售，平均每天可售出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千克，后来经过市场调查发现，单价每降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元，则平均每天的销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售可增加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千克，若该专卖店销售这种核桃要想平均每天获利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40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请回答：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每千克核桃应降价多少元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平均每天获利不变的情况下，为尽可能让利于顾客，赢得市场，该店按原售价的几折出售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457200" y="1143000"/>
          <a:ext cx="8220240" cy="5454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143000"/>
                    <a:ext cx="822024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8600" y="1394640"/>
            <a:ext cx="853452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4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春秋旅行社为吸引市民组团去天水湾风景区旅游，推出如下收费标准：某单位组织员工去天水湾风景区旅游，共支付给春秋旅行社旅游费用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000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，请问该单位这次共有多少员工去天水湾风景区旅游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00" descr=""/>
          <p:cNvPicPr/>
          <p:nvPr/>
        </p:nvPicPr>
        <p:blipFill>
          <a:blip r:embed="rId2"/>
          <a:stretch/>
        </p:blipFill>
        <p:spPr>
          <a:xfrm>
            <a:off x="3657600" y="3733920"/>
            <a:ext cx="4114800" cy="1866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28600" y="1655280"/>
            <a:ext cx="8534520" cy="26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设该单位共有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x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名员工去天水湾风景区旅游．</a:t>
            </a:r>
            <a:r>
              <a:rPr b="1" lang="zh-CN" sz="2200" spc="-1" strike="noStrike">
                <a:solidFill>
                  <a:srgbClr val="ff0066"/>
                </a:solidFill>
                <a:latin typeface="Calibri"/>
                <a:ea typeface="Times New Roman"/>
              </a:rPr>
              <a:t>∵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 000</a:t>
            </a:r>
            <a:r>
              <a:rPr b="1" lang="zh-CN" sz="2200" spc="-1" strike="noStrike">
                <a:solidFill>
                  <a:srgbClr val="ff0066"/>
                </a:solidFill>
                <a:latin typeface="Calibri"/>
                <a:ea typeface="Times New Roman"/>
              </a:rPr>
              <a:t>×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25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＝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25 000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＜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27 000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，</a:t>
            </a:r>
            <a:r>
              <a:rPr b="1" lang="zh-CN" sz="2200" spc="-1" strike="noStrike">
                <a:solidFill>
                  <a:srgbClr val="ff0066"/>
                </a:solidFill>
                <a:latin typeface="Calibri"/>
                <a:ea typeface="Times New Roman"/>
              </a:rPr>
              <a:t>∴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员工人数一定超过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25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人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，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依题意得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[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 000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－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20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x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－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25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)]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x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＝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27 000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，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整理得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x</a:t>
            </a:r>
            <a:r>
              <a:rPr b="1" lang="zh-CN" sz="2200" spc="-1" strike="noStrike" baseline="30000">
                <a:solidFill>
                  <a:srgbClr val="ff0066"/>
                </a:solidFill>
                <a:latin typeface="Times New Roman"/>
                <a:ea typeface="Times New Roman"/>
              </a:rPr>
              <a:t>2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－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75x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＋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 350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＝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0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，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解得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x</a:t>
            </a:r>
            <a:r>
              <a:rPr b="1" lang="zh-CN" sz="2200" spc="-1" strike="noStrike" baseline="-30000">
                <a:solidFill>
                  <a:srgbClr val="ff0066"/>
                </a:solidFill>
                <a:latin typeface="Times New Roman"/>
                <a:ea typeface="Times New Roman"/>
              </a:rPr>
              <a:t>1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＝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45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，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x</a:t>
            </a:r>
            <a:r>
              <a:rPr b="1" lang="zh-CN" sz="2200" spc="-1" strike="noStrike" baseline="-30000">
                <a:solidFill>
                  <a:srgbClr val="ff0066"/>
                </a:solidFill>
                <a:latin typeface="Times New Roman"/>
                <a:ea typeface="Times New Roman"/>
              </a:rPr>
              <a:t>2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＝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30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，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当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x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＝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45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时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，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 000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－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20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x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－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25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)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＝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600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＜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700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，</a:t>
            </a:r>
            <a:r>
              <a:rPr b="1" lang="zh-CN" sz="2200" spc="-1" strike="noStrike">
                <a:solidFill>
                  <a:srgbClr val="ff0066"/>
                </a:solidFill>
                <a:latin typeface="Calibri"/>
                <a:ea typeface="Times New Roman"/>
              </a:rPr>
              <a:t>∴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x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＝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45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不合题意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，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舍去；当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x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＝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30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时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，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 000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－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20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x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－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25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)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＝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900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＞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700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，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符合题意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，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则该单位共有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30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名员工去旅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04920" y="1978920"/>
            <a:ext cx="853416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6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某汽车销售公司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份销售某厂家的汽车，在一定范围内，每部汽车的进价与销售量有如下关系：若当月仅售出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部汽车，则该部汽车的进价为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万元，每多售出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部，所有汽车的进价均降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1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万元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部，月底厂家根据销售量一次性返利给销售公司，销售量在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部以内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含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部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每部返利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5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万元；销售量在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部以上，每部返利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万元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若该公司当月销售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部汽车，则每部汽车的进价为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万元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果汽车的售价为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万元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部，该公司计划当月盈利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万元，那么需要售出多少部汽车？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盈利＝销售利润＋返利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44520" y="4113720"/>
            <a:ext cx="749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26.8</a:t>
            </a:r>
            <a:r>
              <a:rPr b="0" lang="en-US" sz="2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4920" y="1238400"/>
            <a:ext cx="8534160" cy="33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2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)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设需要售出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x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部汽车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，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由题意可知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，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每部汽车的销售利润为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28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－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[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27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－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0.1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x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－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)]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＝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0.1x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＋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0.9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)(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万元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)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，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当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0≤x≤10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时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，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由题意可得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x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0.1x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＋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0.9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)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＋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0.5x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＝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2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，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整理得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x</a:t>
            </a:r>
            <a:r>
              <a:rPr b="1" lang="zh-CN" sz="2200" spc="-1" strike="noStrike" baseline="30000">
                <a:solidFill>
                  <a:srgbClr val="ff0066"/>
                </a:solidFill>
                <a:latin typeface="Times New Roman"/>
                <a:ea typeface="Times New Roman"/>
              </a:rPr>
              <a:t>2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＋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4x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－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20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＝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0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，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解得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x</a:t>
            </a:r>
            <a:r>
              <a:rPr b="1" lang="zh-CN" sz="2200" spc="-1" strike="noStrike" baseline="-30000">
                <a:solidFill>
                  <a:srgbClr val="ff0066"/>
                </a:solidFill>
                <a:latin typeface="Times New Roman"/>
                <a:ea typeface="Times New Roman"/>
              </a:rPr>
              <a:t>1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＝－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20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不合题意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，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舍去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)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，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x</a:t>
            </a:r>
            <a:r>
              <a:rPr b="1" lang="zh-CN" sz="2200" spc="-1" strike="noStrike" baseline="-30000">
                <a:solidFill>
                  <a:srgbClr val="ff0066"/>
                </a:solidFill>
                <a:latin typeface="Times New Roman"/>
                <a:ea typeface="Times New Roman"/>
              </a:rPr>
              <a:t>2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＝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6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；当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x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＞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0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时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，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由题意可知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x·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0.1x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＋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0.9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)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＋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x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＝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2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，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整理得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x</a:t>
            </a:r>
            <a:r>
              <a:rPr b="1" lang="zh-CN" sz="2200" spc="-1" strike="noStrike" baseline="30000">
                <a:solidFill>
                  <a:srgbClr val="ff0066"/>
                </a:solidFill>
                <a:latin typeface="Times New Roman"/>
                <a:ea typeface="Times New Roman"/>
              </a:rPr>
              <a:t>2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＋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9x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－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20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＝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0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，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解得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x</a:t>
            </a:r>
            <a:r>
              <a:rPr b="1" lang="zh-CN" sz="2200" spc="-1" strike="noStrike" baseline="-30000">
                <a:solidFill>
                  <a:srgbClr val="ff0066"/>
                </a:solidFill>
                <a:latin typeface="Times New Roman"/>
                <a:ea typeface="Times New Roman"/>
              </a:rPr>
              <a:t>1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＝－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24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不合题意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，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舍去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)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，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x</a:t>
            </a:r>
            <a:r>
              <a:rPr b="1" lang="zh-CN" sz="2200" spc="-1" strike="noStrike" baseline="-30000">
                <a:solidFill>
                  <a:srgbClr val="ff0066"/>
                </a:solidFill>
                <a:latin typeface="Times New Roman"/>
                <a:ea typeface="Times New Roman"/>
              </a:rPr>
              <a:t>2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＝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5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，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因为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5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＜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0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，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所以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x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＝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5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舍去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，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综上可知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，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需要售出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6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部汽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533520" y="1371600"/>
          <a:ext cx="7953120" cy="4741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371600"/>
                    <a:ext cx="7953120" cy="47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965520" y="2589840"/>
            <a:ext cx="104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等量关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8600" y="3885120"/>
            <a:ext cx="126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售价－进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900680" y="3581280"/>
          <a:ext cx="4243320" cy="7765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00680" y="3581280"/>
                    <a:ext cx="4243320" cy="7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251480" y="1827720"/>
            <a:ext cx="44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66"/>
                </a:solidFill>
                <a:latin typeface="宋体"/>
                <a:ea typeface="Times New Roman"/>
              </a:rPr>
              <a:t>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1220400"/>
            <a:ext cx="876312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台电视机成本价为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，销售价比成本价增加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%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因库存积压，所以就按销售价的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%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出售，那么每台售价为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%)(1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%)a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%(1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%)a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%)(1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%)a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%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%)a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600200" y="2895480"/>
            <a:ext cx="380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1471680"/>
            <a:ext cx="876312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某商店将进价为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的商品按每件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出售，每天可销售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件，现商家采用提高售价，减少进货量的方法增加利润，如果这种商品每件涨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5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，其销量就会减少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件，那么要使利润为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0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，需将售价定为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　　　　　　　　　　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或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2520" y="2362320"/>
            <a:ext cx="145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2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元或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4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1472040"/>
            <a:ext cx="876312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某种文化衫，平均每天销售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件，每件盈利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，若每件降价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，则每天可多售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件，如果每天要盈利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80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，每件应降价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某商场将某种商品的售价从原来的每件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经两次调价后调至每件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.4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，若该商品两次调价的降价率相同，则这个降价率为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经调查，该商品每降价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，即可多销售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件．若该商品原来每月销售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件，那么两次调价后，每月可销售商品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件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5680" y="3840120"/>
            <a:ext cx="69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0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8560" y="4343400"/>
            <a:ext cx="601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8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8600" y="1887480"/>
            <a:ext cx="876312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某机械租赁公司有同一型号的机械设备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套，经过一段时间的经营发现：当每套设备的月租金为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0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时，恰好全部租出去，在此基础上，当每套设备的月租金每提高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时，这种设备就少租出一套，且未租出的设备每月需支出费用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维护费、管理费等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，若使出租该型号设备的月收益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收益＝租金收入－支出费用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040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；同时还要考虑提高市场的占有率，则该公司每套设备的月租金应定为多少元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80880" y="4495680"/>
          <a:ext cx="8655120" cy="2711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95680"/>
                    <a:ext cx="8655120" cy="27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" y="1974600"/>
            <a:ext cx="876312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同一平面内的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条直线两两相交，最多共有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交点，则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某课外活动小组有若干人，圣诞晚会上互送贺卡一张，全组人共送出贺卡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张，则此小组共有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人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某单位要组织一次篮球赛，赛制为单循环形式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每两队之间都赛一场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计划安排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场比赛，则参加比赛的球队应有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队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队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5840" y="182772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54320" y="281844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93320" y="388512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2049480"/>
            <a:ext cx="8763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某种电脑病毒传播非常快，如果一台电脑被感染，经过两轮感染后就会有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台电脑被感染，请你用学过的知识分析，每轮感染中，平均一台电脑会感染几台电脑？若病毒得不到有效控制，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轮感染后，被感染的电脑会不会超过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0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台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3666600"/>
            <a:ext cx="8763120" cy="17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设平均一台电脑会感染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x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台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，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依题意得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＋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x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＋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x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x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＋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)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＝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81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，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x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＋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)</a:t>
            </a:r>
            <a:r>
              <a:rPr b="1" lang="zh-CN" sz="2200" spc="-1" strike="noStrike" baseline="30000">
                <a:solidFill>
                  <a:srgbClr val="ff0066"/>
                </a:solidFill>
                <a:latin typeface="Times New Roman"/>
                <a:ea typeface="Times New Roman"/>
              </a:rPr>
              <a:t>2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＝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81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，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解得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x</a:t>
            </a:r>
            <a:r>
              <a:rPr b="1" lang="zh-CN" sz="2200" spc="-1" strike="noStrike" baseline="-30000">
                <a:solidFill>
                  <a:srgbClr val="ff0066"/>
                </a:solidFill>
                <a:latin typeface="Times New Roman"/>
                <a:ea typeface="Times New Roman"/>
              </a:rPr>
              <a:t>1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＝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8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，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x</a:t>
            </a:r>
            <a:r>
              <a:rPr b="1" lang="zh-CN" sz="2200" spc="-1" strike="noStrike" baseline="-30000">
                <a:solidFill>
                  <a:srgbClr val="ff0066"/>
                </a:solidFill>
                <a:latin typeface="Times New Roman"/>
                <a:ea typeface="Times New Roman"/>
              </a:rPr>
              <a:t>2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＝－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0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舍去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)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，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81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＋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x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)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＝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81×9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＝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729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＞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700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，∴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3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轮感染后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，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被感染的电脑会超过</a:t>
            </a:r>
            <a:r>
              <a:rPr b="1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700</a:t>
            </a:r>
            <a:r>
              <a:rPr b="0" lang="zh-CN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9560" y="2208960"/>
            <a:ext cx="436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1569600"/>
            <a:ext cx="87631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某种植物的主干长出若干数目的支干，每个支干又长出相同数目的小分支，若小分支、支干和主干的总数是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则每个支干长出的小分支的个数为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　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　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　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3452040"/>
            <a:ext cx="876312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2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(2013·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襄阳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一人患了流感，经过两轮传染后共有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人患了流感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每轮传染中平均一个人传染了几个人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果不及时控制，第三轮将又有多少人被传染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88920" y="5287680"/>
            <a:ext cx="13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7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人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448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9T07:57:25Z</dcterms:created>
  <dc:creator/>
  <dc:description/>
  <dc:language>en-US</dc:language>
  <cp:lastModifiedBy>授权用户</cp:lastModifiedBy>
  <dcterms:modified xsi:type="dcterms:W3CDTF">2015-06-15T22:20:1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